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BF8-2403-46FF-883A-107F8579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968-B653-4A80-A936-4E29B6D7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8EF-AA11-4F4D-96A7-109E94B0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66D8-6247-4850-A0B2-EA12D2C4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7B99-344D-4456-9BCF-DE267BED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385A-15BE-47DB-B59F-C60231CF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54FA-CB27-40F0-84EE-6CA15578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658A-6E79-4170-928D-3AD34CDF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D26E-DFFB-4367-A1C0-3BDEC2D8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6352-94F8-441F-9DFE-7C2BE796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E56A-C676-461F-96DB-097A0334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2C8-84B2-4DC9-AEB8-EE32C815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78F1-8F42-4EBE-89CF-5FD90A45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97CD-7E96-4A69-895B-38753CC2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786E-2D34-42E1-B211-14DB7B34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D146-B828-4D60-A685-905D0623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E103-352D-4DF0-BE0B-8E512676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EB41-F2C9-49B2-8BBD-A4985832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ACB-CCD3-42EC-89E8-478D2AB0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7A95-1410-42CB-AFC6-A1E1EE6D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B255-20E9-4C70-ACB7-F1676655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F1B-BF34-45EE-904C-EC269F09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D9A-9855-4816-A213-34BCF256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5A7-94D2-4513-B667-C29C6167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500A-761E-4ACC-8FB1-AB76B2C0F51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276D-497F-40E4-BC61-85F2A8BC6F8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Volumes/6th%20Grade/TBriscoStudents/Robbie%20Spilker/Math/Algebra.ppt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imple Equations Answer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3092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x=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3092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809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3809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x=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52578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5334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. x=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4572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44956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x=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/>
          </p:cNvPr>
          <p:cNvSpPr/>
          <p:nvPr/>
        </p:nvSpPr>
        <p:spPr>
          <a:xfrm>
            <a:off x="0" y="1066680"/>
            <a:ext cx="1752480" cy="838440"/>
          </a:xfrm>
          <a:custGeom>
            <a:avLst/>
            <a:gdLst>
              <a:gd name="textAreaLeft" fmla="*/ 77760 w 1752480"/>
              <a:gd name="textAreaRight" fmla="*/ 1674720 w 1752480"/>
              <a:gd name="textAreaTop" fmla="*/ 77760 h 838440"/>
              <a:gd name="textAreaBottom" fmla="*/ 760680 h 838440"/>
            </a:gdLst>
            <a:ahLst/>
            <a:rect l="textAreaLeft" t="textAreaTop" r="textAreaRight" b="textAreaBottom"/>
            <a:pathLst>
              <a:path w="45138" h="21600">
                <a:moveTo>
                  <a:pt x="0" y="0"/>
                </a:moveTo>
                <a:lnTo>
                  <a:pt x="45138" y="0"/>
                </a:lnTo>
                <a:lnTo>
                  <a:pt x="45138" y="21600"/>
                </a:lnTo>
                <a:lnTo>
                  <a:pt x="0" y="21600"/>
                </a:lnTo>
                <a:close/>
              </a:path>
              <a:path fill="lightenLess" w="45138" h="21600">
                <a:moveTo>
                  <a:pt x="0" y="0"/>
                </a:moveTo>
                <a:lnTo>
                  <a:pt x="45138" y="0"/>
                </a:lnTo>
                <a:lnTo>
                  <a:pt x="43133" y="2005"/>
                </a:lnTo>
                <a:lnTo>
                  <a:pt x="2005" y="2005"/>
                </a:lnTo>
                <a:close/>
              </a:path>
              <a:path fill="darken" w="45138" h="21600">
                <a:moveTo>
                  <a:pt x="45138" y="0"/>
                </a:moveTo>
                <a:lnTo>
                  <a:pt x="45138" y="21600"/>
                </a:lnTo>
                <a:lnTo>
                  <a:pt x="43133" y="19595"/>
                </a:lnTo>
                <a:lnTo>
                  <a:pt x="43133" y="2005"/>
                </a:lnTo>
                <a:close/>
              </a:path>
              <a:path fill="darkenLess" w="45138" h="21600">
                <a:moveTo>
                  <a:pt x="45138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43133" y="19595"/>
                </a:lnTo>
                <a:close/>
              </a:path>
              <a:path fill="lighten" w="45138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bf0002">
                  <a:alpha val="75294"/>
                </a:srgbClr>
              </a:gs>
              <a:gs pos="100000">
                <a:srgbClr val="580000">
                  <a:alpha val="75294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to 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1143000"/>
            <a:ext cx="1523880" cy="685800"/>
          </a:xfrm>
          <a:custGeom>
            <a:avLst/>
            <a:gdLst>
              <a:gd name="textAreaLeft" fmla="*/ 68040 w 1523880"/>
              <a:gd name="textAreaRight" fmla="*/ 1455840 w 1523880"/>
              <a:gd name="textAreaTop" fmla="*/ 68040 h 685800"/>
              <a:gd name="textAreaBottom" fmla="*/ 61776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5832" y="2150"/>
                </a:lnTo>
                <a:lnTo>
                  <a:pt x="2150" y="215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5832" y="19450"/>
                </a:lnTo>
                <a:lnTo>
                  <a:pt x="45832" y="215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45832" y="1945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gradFill rotWithShape="0">
            <a:gsLst>
              <a:gs pos="0">
                <a:srgbClr val="bf1bb2">
                  <a:alpha val="75294"/>
                </a:srgbClr>
              </a:gs>
              <a:gs pos="100000">
                <a:srgbClr val="580c52">
                  <a:alpha val="75294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h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638680" y="2819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x=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2895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x=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50292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x=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3930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x=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5029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x=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3886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x=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enthesis Answer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914400"/>
            <a:ext cx="2361960" cy="609480"/>
          </a:xfrm>
          <a:custGeom>
            <a:avLst/>
            <a:gdLst>
              <a:gd name="textAreaLeft" fmla="*/ 61920 w 2361960"/>
              <a:gd name="textAreaRight" fmla="*/ 2300040 w 2361960"/>
              <a:gd name="textAreaTop" fmla="*/ 61920 h 609480"/>
              <a:gd name="textAreaBottom" fmla="*/ 547560 h 609480"/>
            </a:gdLst>
            <a:ahLst/>
            <a:rect l="textAreaLeft" t="textAreaTop" r="textAreaRight" b="textAreaBottom"/>
            <a:pathLst>
              <a:path w="83671" h="21600">
                <a:moveTo>
                  <a:pt x="0" y="0"/>
                </a:moveTo>
                <a:lnTo>
                  <a:pt x="83671" y="0"/>
                </a:lnTo>
                <a:lnTo>
                  <a:pt x="83671" y="21600"/>
                </a:lnTo>
                <a:lnTo>
                  <a:pt x="0" y="21600"/>
                </a:lnTo>
                <a:close/>
              </a:path>
              <a:path fill="lightenLess" w="83671" h="21600">
                <a:moveTo>
                  <a:pt x="0" y="0"/>
                </a:moveTo>
                <a:lnTo>
                  <a:pt x="83671" y="0"/>
                </a:lnTo>
                <a:lnTo>
                  <a:pt x="81477" y="2194"/>
                </a:lnTo>
                <a:lnTo>
                  <a:pt x="2194" y="2194"/>
                </a:lnTo>
                <a:close/>
              </a:path>
              <a:path fill="darken" w="83671" h="21600">
                <a:moveTo>
                  <a:pt x="83671" y="0"/>
                </a:moveTo>
                <a:lnTo>
                  <a:pt x="83671" y="21600"/>
                </a:lnTo>
                <a:lnTo>
                  <a:pt x="81477" y="19406"/>
                </a:lnTo>
                <a:lnTo>
                  <a:pt x="81477" y="2194"/>
                </a:lnTo>
                <a:close/>
              </a:path>
              <a:path fill="darkenLess" w="83671" h="21600">
                <a:moveTo>
                  <a:pt x="83671" y="21600"/>
                </a:moveTo>
                <a:lnTo>
                  <a:pt x="0" y="21600"/>
                </a:lnTo>
                <a:lnTo>
                  <a:pt x="2194" y="19406"/>
                </a:lnTo>
                <a:lnTo>
                  <a:pt x="81477" y="19406"/>
                </a:lnTo>
                <a:close/>
              </a:path>
              <a:path fill="lighten" w="83671" h="21600">
                <a:moveTo>
                  <a:pt x="0" y="21600"/>
                </a:moveTo>
                <a:lnTo>
                  <a:pt x="0" y="0"/>
                </a:lnTo>
                <a:lnTo>
                  <a:pt x="2194" y="2194"/>
                </a:lnTo>
                <a:lnTo>
                  <a:pt x="2194" y="194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5294"/>
                </a:srgbClr>
              </a:gs>
              <a:gs pos="50000">
                <a:srgbClr val="757575">
                  <a:alpha val="75294"/>
                </a:srgbClr>
              </a:gs>
              <a:gs pos="100000">
                <a:srgbClr val="ffffff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to Parenthes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8:37:19Z</dcterms:created>
  <dc:creator>Northmont City Schools</dc:creator>
  <dc:description/>
  <dc:language>en-US</dc:language>
  <cp:lastModifiedBy>Northmont City Schools</cp:lastModifiedBy>
  <dcterms:modified xsi:type="dcterms:W3CDTF">2010-03-10T15:51:00Z</dcterms:modified>
  <cp:revision>5</cp:revision>
  <dc:subject/>
  <dc:title>Answer Key</dc:title>
</cp:coreProperties>
</file>